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6B7-E399-438C-80C7-A943840A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DFA-A15B-4C2D-B93E-5B9B34BC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4C6-1924-4495-9479-7CF08554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8F7-B473-47B8-84A3-4A956E41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121E-CB92-4D44-9D32-D911B508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348-74F2-4334-8A2A-E03E9C2B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01C-5ED2-41DE-995B-2F73A572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D1B-6BF8-47DB-8B71-489A98E1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9C6-D4C2-47D2-865A-7FD9700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C32-F8FF-4262-8F92-B58CDA90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529-50AF-4EF3-A03A-D6B00A91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339-0870-4265-B9A5-0B766F8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D7DE-2221-48AC-91E9-1CF199A2018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102F-25AE-438D-9A9F-F64C21D33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NCF CONN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Vous avez fréquenté les guichets quand il y en existait dans pratiquement toutes les gar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Vous avez utilisé les Automates Points de Vente (APV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Vous avez connu et utilisé KI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Vous vous êtes adapté à OUI SNCF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Il faut maintenant passer à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SNCF CONNECT : après l’étape 1, rendez vous directement à l’étape 2 (diapositive n°16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Vous en avez assez de vous déplacer vers la gare la plus proche pour acheter un titre de transpor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Il est temps de découvrir et d’utiliser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SNCF CONNECT : ouvrez d’abord votre compte sur cette application.</a:t>
            </a:r>
            <a:r>
              <a:rPr b="1" lang="fr-FR" sz="18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5B20-1CC2-4F15-9E92-296503DB7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rnière formali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seignez tous les champs (le mot de passe est celui créé sur la diapositive n°6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us pouvez cocher la case « se souvenir de moi » pour éviter de saisir adresse e-mail et mot de passe à chaque connex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liquez sur Me Connec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57200" y="2521080"/>
            <a:ext cx="4619520" cy="2684160"/>
          </a:xfrm>
          <a:prstGeom prst="rect">
            <a:avLst/>
          </a:prstGeom>
          <a:ln w="0">
            <a:noFill/>
          </a:ln>
        </p:spPr>
      </p:pic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7D9-746B-4635-A1E3-31BAB6035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RAVO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ienvenue dans le club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ous pouvez quitter l’appl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Mais avant de pouvoir l’utiliser, il faut qu’elle vous reconnaissance comme retraité SNC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our cela, accédez de nouveau à SNCF-CONNECT comme indiqué sur la diapositive n°2 et…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57200" y="234648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8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1F5-54F1-473D-ACDC-4991D9D894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ge d’accue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rénom sous lequel vous avez créé votre compte apparaît tout à droite du bandeau no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liquez dess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Espace réservé du contenu 6" descr="Diapo 1.jpeg"/>
          <p:cNvPicPr/>
          <p:nvPr/>
        </p:nvPicPr>
        <p:blipFill>
          <a:blip r:embed="rId1"/>
          <a:stretch/>
        </p:blipFill>
        <p:spPr>
          <a:xfrm>
            <a:off x="457200" y="1916280"/>
            <a:ext cx="4475160" cy="3744720"/>
          </a:xfrm>
          <a:prstGeom prst="rect">
            <a:avLst/>
          </a:prstGeom>
          <a:ln w="0">
            <a:noFill/>
          </a:ln>
        </p:spPr>
      </p:pic>
      <p:cxnSp>
        <p:nvCxnSpPr>
          <p:cNvPr id="93" name="Connecteur droit avec flèche 6"/>
          <p:cNvCxnSpPr/>
          <p:nvPr/>
        </p:nvCxnSpPr>
        <p:spPr>
          <a:xfrm flipH="1" flipV="1">
            <a:off x="4858560" y="2059920"/>
            <a:ext cx="577080" cy="73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2E40-7494-40AF-8166-562DEB710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cédez à votre comp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tte ligne vous y invi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4835520" cy="4321080"/>
          </a:xfrm>
          <a:prstGeom prst="rect">
            <a:avLst/>
          </a:prstGeom>
          <a:ln w="0">
            <a:noFill/>
          </a:ln>
        </p:spPr>
      </p:pic>
      <p:cxnSp>
        <p:nvCxnSpPr>
          <p:cNvPr id="98" name="Connecteur droit avec flèche 6"/>
          <p:cNvCxnSpPr/>
          <p:nvPr/>
        </p:nvCxnSpPr>
        <p:spPr>
          <a:xfrm flipH="1">
            <a:off x="1547280" y="2492280"/>
            <a:ext cx="4104720" cy="866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D9AC-5C51-49B7-91AC-2D6E8AA7B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Vous n’êtes pas un voyageur ordin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liquez sur ce pav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84200" y="1600200"/>
            <a:ext cx="3984480" cy="4525920"/>
          </a:xfrm>
          <a:prstGeom prst="rect">
            <a:avLst/>
          </a:prstGeom>
          <a:ln w="0">
            <a:noFill/>
          </a:ln>
        </p:spPr>
      </p:pic>
      <p:cxnSp>
        <p:nvCxnSpPr>
          <p:cNvPr id="103" name="Connecteur droit avec flèche 8"/>
          <p:cNvCxnSpPr/>
          <p:nvPr/>
        </p:nvCxnSpPr>
        <p:spPr>
          <a:xfrm flipH="1">
            <a:off x="2915640" y="2205000"/>
            <a:ext cx="1943640" cy="36727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4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5F03-DE71-404E-9BDB-0210550B7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Vérification de votre appartenance au monde des chemino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seignez tous les champ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n° CP (7 chiffres et 1 lettre majuscule)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doit pa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comporter l’indice (1 pour les retraités, 5 pour les pensionnés de réversion,…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code secret est celui de votre Pass Carmill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liquez sur Enregistr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us pouvez de nouveau quitter l’appli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our son utilisation ultérieure, partez directement de la diapositive n°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36003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108" name="Connecteur droit avec flèche 8"/>
          <p:cNvCxnSpPr/>
          <p:nvPr/>
        </p:nvCxnSpPr>
        <p:spPr>
          <a:xfrm flipH="1">
            <a:off x="3347640" y="4005000"/>
            <a:ext cx="1512000" cy="18723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17F9-31BD-4F4D-865C-C239BAD97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2 : la page d’accueil</a:t>
            </a: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Espace réservé du contenu 6" descr="Diapo 1.jpeg"/>
          <p:cNvPicPr/>
          <p:nvPr/>
        </p:nvPicPr>
        <p:blipFill>
          <a:blip r:embed="rId1"/>
          <a:stretch/>
        </p:blipFill>
        <p:spPr>
          <a:xfrm>
            <a:off x="457200" y="1557360"/>
            <a:ext cx="4906800" cy="424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15600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108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Le prénom (ou le nom) sous lequel vous avez créé votre compte sur Oui.sncf  s’affiche  dans la bande noire : cliquez dessus et ….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Connecteur droit avec flèche 8"/>
          <p:cNvCxnSpPr/>
          <p:nvPr/>
        </p:nvCxnSpPr>
        <p:spPr>
          <a:xfrm flipH="1" flipV="1">
            <a:off x="5219280" y="1699560"/>
            <a:ext cx="1008720" cy="577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6EDB-9901-4220-8DE0-981FCA0FB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3 : accédez à votre comp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8472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Une ligne vous y invite : il suffit de cliquer dessu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5051520" cy="4321440"/>
          </a:xfrm>
          <a:prstGeom prst="rect">
            <a:avLst/>
          </a:prstGeom>
          <a:ln w="0">
            <a:noFill/>
          </a:ln>
        </p:spPr>
      </p:pic>
      <p:cxnSp>
        <p:nvCxnSpPr>
          <p:cNvPr id="118" name="Connecteur droit avec flèche 10"/>
          <p:cNvCxnSpPr/>
          <p:nvPr/>
        </p:nvCxnSpPr>
        <p:spPr>
          <a:xfrm flipH="1">
            <a:off x="1618560" y="2781360"/>
            <a:ext cx="4537800" cy="288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7208-6C55-4350-B04A-0AF7F0B0B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4 : Vér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n cliquant sur les différentes lignes, vous vérifiez que les informations vous concernant ont bien  été transférées telles que vous les avez entrées dans Oui.snc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us pouvez retrouver ici vos réservations à ven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9035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123" name="Connecteur droit avec flèche 6"/>
          <p:cNvCxnSpPr/>
          <p:nvPr/>
        </p:nvCxnSpPr>
        <p:spPr>
          <a:xfrm flipH="1">
            <a:off x="4500000" y="2276280"/>
            <a:ext cx="1656360" cy="865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Connecteur droit avec flèche 8"/>
          <p:cNvCxnSpPr/>
          <p:nvPr/>
        </p:nvCxnSpPr>
        <p:spPr>
          <a:xfrm flipH="1">
            <a:off x="4500000" y="2421000"/>
            <a:ext cx="1656360" cy="12960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5" name="Connecteur droit avec flèche 12"/>
          <p:cNvCxnSpPr/>
          <p:nvPr/>
        </p:nvCxnSpPr>
        <p:spPr>
          <a:xfrm flipH="1">
            <a:off x="4500000" y="2565000"/>
            <a:ext cx="1727640" cy="33123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Connecteur droit avec flèche 14"/>
          <p:cNvCxnSpPr/>
          <p:nvPr/>
        </p:nvCxnSpPr>
        <p:spPr>
          <a:xfrm flipH="1">
            <a:off x="4500360" y="4797000"/>
            <a:ext cx="1584720" cy="577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2709-DD77-4C57-926C-6B78B7791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5 : Fin des vér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8472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lus bas sur cette même page, vous vérifiez l’exactitude des informations que vous avez entrées sur Oui.sn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57200" y="1690560"/>
            <a:ext cx="5267160" cy="434520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6"/>
          <p:cNvCxnSpPr/>
          <p:nvPr/>
        </p:nvCxnSpPr>
        <p:spPr>
          <a:xfrm flipH="1">
            <a:off x="4787280" y="2276280"/>
            <a:ext cx="1440360" cy="6483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Connecteur droit avec flèche 10"/>
          <p:cNvCxnSpPr/>
          <p:nvPr/>
        </p:nvCxnSpPr>
        <p:spPr>
          <a:xfrm flipH="1">
            <a:off x="4787280" y="2491920"/>
            <a:ext cx="1440360" cy="1297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3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1C2A-32EF-4F8A-8211-8DD823ED2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uvrir l’application avec votre navigateur à l’adresse https:\www.sncf-connec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5EE-1C69-4D34-9C58-799B61750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6 : Uti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pez une destination (Gare de Paris Montparnasse dans l’exemp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t lancez la recherc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" y="1413000"/>
            <a:ext cx="5051520" cy="4968720"/>
          </a:xfrm>
          <a:prstGeom prst="rect">
            <a:avLst/>
          </a:prstGeom>
          <a:ln w="0">
            <a:noFill/>
          </a:ln>
        </p:spPr>
      </p:pic>
      <p:cxnSp>
        <p:nvCxnSpPr>
          <p:cNvPr id="137" name="Connecteur droit avec flèche 6"/>
          <p:cNvCxnSpPr/>
          <p:nvPr/>
        </p:nvCxnSpPr>
        <p:spPr>
          <a:xfrm flipH="1">
            <a:off x="2050200" y="2420640"/>
            <a:ext cx="4034520" cy="3096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8" name="Connecteur droit avec flèche 8"/>
          <p:cNvCxnSpPr/>
          <p:nvPr/>
        </p:nvCxnSpPr>
        <p:spPr>
          <a:xfrm flipH="1">
            <a:off x="5292360" y="2781360"/>
            <a:ext cx="792720" cy="27360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5FE7-48D5-4CAD-92EC-04AFDE76B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TAPE 7 : Suite de l’util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ntrez une gare de départ (Vannes dans l’exempl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457200" y="1768320"/>
            <a:ext cx="4978440" cy="4189680"/>
          </a:xfrm>
          <a:prstGeom prst="rect">
            <a:avLst/>
          </a:prstGeom>
          <a:ln w="0">
            <a:noFill/>
          </a:ln>
        </p:spPr>
      </p:pic>
      <p:cxnSp>
        <p:nvCxnSpPr>
          <p:cNvPr id="143" name="Connecteur droit avec flèche 6"/>
          <p:cNvCxnSpPr/>
          <p:nvPr/>
        </p:nvCxnSpPr>
        <p:spPr>
          <a:xfrm flipH="1">
            <a:off x="2123640" y="2420640"/>
            <a:ext cx="3888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BAFF-95A7-479F-BF33-4F8EA5BED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ous choisissez la date de votre voyage        et un retour si nécessaire.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ous devez vous identifiez en tant qu’agent en cliquant sur ce pavé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4038480" cy="3956040"/>
          </a:xfrm>
          <a:prstGeom prst="rect">
            <a:avLst/>
          </a:prstGeom>
          <a:ln w="0">
            <a:noFill/>
          </a:ln>
        </p:spPr>
      </p:pic>
      <p:cxnSp>
        <p:nvCxnSpPr>
          <p:cNvPr id="148" name="Connecteur droit avec flèche 8"/>
          <p:cNvCxnSpPr/>
          <p:nvPr/>
        </p:nvCxnSpPr>
        <p:spPr>
          <a:xfrm flipH="1">
            <a:off x="1115640" y="2349000"/>
            <a:ext cx="3672720" cy="10087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Connecteur droit avec flèche 10"/>
          <p:cNvCxnSpPr/>
          <p:nvPr/>
        </p:nvCxnSpPr>
        <p:spPr>
          <a:xfrm flipH="1">
            <a:off x="3202920" y="2421000"/>
            <a:ext cx="1656360" cy="9374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0" name="Connecteur droit avec flèche 12"/>
          <p:cNvCxnSpPr/>
          <p:nvPr/>
        </p:nvCxnSpPr>
        <p:spPr>
          <a:xfrm flipH="1">
            <a:off x="4355640" y="3789360"/>
            <a:ext cx="432720" cy="504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4E56-28F5-42F4-A41B-91C60D11D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pez le code d’utilisation de votre Pass Carmillon et cliquez sur Enregistr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us êtes identifiés comme agent SNCF et avez accès aux tarifs correspondants pendant environ 35 m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146240" y="1600200"/>
            <a:ext cx="2660760" cy="4525920"/>
          </a:xfrm>
          <a:prstGeom prst="rect">
            <a:avLst/>
          </a:prstGeom>
          <a:ln w="0">
            <a:noFill/>
          </a:ln>
        </p:spPr>
      </p:pic>
      <p:cxnSp>
        <p:nvCxnSpPr>
          <p:cNvPr id="155" name="Connecteur droit avec flèche 6"/>
          <p:cNvCxnSpPr/>
          <p:nvPr/>
        </p:nvCxnSpPr>
        <p:spPr>
          <a:xfrm flipH="1">
            <a:off x="2842920" y="2133720"/>
            <a:ext cx="2953440" cy="7912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441-3E3A-445C-9C87-B0E08C80B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espérant vous avoir aidé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ous retrouvez sensiblement la même démarche qu’avec Oui.sncf 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hoix du tari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ccompagn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Bon voy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57200" y="1650960"/>
            <a:ext cx="4038480" cy="4424400"/>
          </a:xfrm>
          <a:prstGeom prst="rect">
            <a:avLst/>
          </a:prstGeom>
          <a:ln w="0">
            <a:noFill/>
          </a:ln>
        </p:spPr>
      </p:pic>
      <p:cxnSp>
        <p:nvCxnSpPr>
          <p:cNvPr id="160" name="Connecteur droit avec flèche 6"/>
          <p:cNvCxnSpPr/>
          <p:nvPr/>
        </p:nvCxnSpPr>
        <p:spPr>
          <a:xfrm flipH="1">
            <a:off x="4284360" y="2636640"/>
            <a:ext cx="79272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Connecteur droit avec flèche 8"/>
          <p:cNvCxnSpPr/>
          <p:nvPr/>
        </p:nvCxnSpPr>
        <p:spPr>
          <a:xfrm flipH="1">
            <a:off x="4284000" y="2924280"/>
            <a:ext cx="719640" cy="144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2F98-D03B-4C16-86BE-ED5A49F51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a page d’accue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24000" y="16002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liquez sur cette icône pour accéder à la page suivan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GR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chris\OneDrive\Bureau\Diapo 2.jpeg"/>
          <p:cNvPicPr/>
          <p:nvPr/>
        </p:nvPicPr>
        <p:blipFill>
          <a:blip r:embed="rId1"/>
          <a:stretch/>
        </p:blipFill>
        <p:spPr>
          <a:xfrm>
            <a:off x="539640" y="1628640"/>
            <a:ext cx="5040360" cy="4248360"/>
          </a:xfrm>
          <a:prstGeom prst="rect">
            <a:avLst/>
          </a:prstGeom>
          <a:ln w="0">
            <a:noFill/>
          </a:ln>
        </p:spPr>
      </p:pic>
      <p:cxnSp>
        <p:nvCxnSpPr>
          <p:cNvPr id="51" name="Connecteur droit avec flèche 8"/>
          <p:cNvCxnSpPr/>
          <p:nvPr/>
        </p:nvCxnSpPr>
        <p:spPr>
          <a:xfrm flipH="1" flipV="1">
            <a:off x="4355640" y="1843920"/>
            <a:ext cx="1512000" cy="793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0584-A7AD-428F-9FD9-57943EE22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n comm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0072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liquez sur la ligne « Se créer un compte » pour continu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5627520" cy="4105080"/>
          </a:xfrm>
          <a:prstGeom prst="rect">
            <a:avLst/>
          </a:prstGeom>
          <a:ln w="0">
            <a:noFill/>
          </a:ln>
        </p:spPr>
      </p:pic>
      <p:cxnSp>
        <p:nvCxnSpPr>
          <p:cNvPr id="56" name="Connecteur droit avec flèche 9"/>
          <p:cNvCxnSpPr/>
          <p:nvPr/>
        </p:nvCxnSpPr>
        <p:spPr>
          <a:xfrm flipH="1">
            <a:off x="1115640" y="1915920"/>
            <a:ext cx="5256720" cy="1945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5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3C1C-3E1D-4B67-8086-5D64E70E7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réation de votre comp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5600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Calibri"/>
              </a:rPr>
              <a:t>Renseignez cette case et cliquez sur continuer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5194440" cy="4255920"/>
          </a:xfrm>
          <a:prstGeom prst="rect">
            <a:avLst/>
          </a:prstGeom>
          <a:ln w="0">
            <a:noFill/>
          </a:ln>
        </p:spPr>
      </p:pic>
      <p:cxnSp>
        <p:nvCxnSpPr>
          <p:cNvPr id="61" name="Connecteur droit avec flèche 9"/>
          <p:cNvCxnSpPr/>
          <p:nvPr/>
        </p:nvCxnSpPr>
        <p:spPr>
          <a:xfrm flipH="1">
            <a:off x="3419280" y="1844640"/>
            <a:ext cx="2808720" cy="2161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A44F-F26C-42D9-B743-16EAE3F90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DISPENSABLE : un mot de p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ez votre mot de passe en respectant les prescriptions et cliquez sur continu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4038480" cy="4176720"/>
          </a:xfrm>
          <a:prstGeom prst="rect">
            <a:avLst/>
          </a:prstGeom>
          <a:ln w="0">
            <a:noFill/>
          </a:ln>
        </p:spPr>
      </p:pic>
      <p:cxnSp>
        <p:nvCxnSpPr>
          <p:cNvPr id="66" name="Connecteur droit avec flèche 9"/>
          <p:cNvCxnSpPr/>
          <p:nvPr/>
        </p:nvCxnSpPr>
        <p:spPr>
          <a:xfrm flipH="1">
            <a:off x="2484000" y="2205000"/>
            <a:ext cx="2232720" cy="22327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Connecteur droit avec flèche 11"/>
          <p:cNvCxnSpPr/>
          <p:nvPr/>
        </p:nvCxnSpPr>
        <p:spPr>
          <a:xfrm flipH="1">
            <a:off x="2123640" y="2637000"/>
            <a:ext cx="2736000" cy="22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72D3-A5D3-4FE8-9755-DE7E46589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otre prof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Renseignez tous les champs (sans oublier votre civilité) et cliquez sur Créer mon comp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4514760" cy="4525920"/>
          </a:xfrm>
          <a:prstGeom prst="rect">
            <a:avLst/>
          </a:prstGeom>
          <a:ln w="0">
            <a:noFill/>
          </a:ln>
        </p:spPr>
      </p:pic>
      <p:sp>
        <p:nvSpPr>
          <p:cNvPr id="7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8A6A-D0CF-4A73-8B3F-BE146B9F5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ela se pré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7960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Consultez votre boîte de messagerie et ouvrez le courriel envoyé par « monidentifiant@sncf.com 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chris\OneDrive\Bureau\Diapo 3 (2).jpeg"/>
          <p:cNvPicPr/>
          <p:nvPr/>
        </p:nvPicPr>
        <p:blipFill>
          <a:blip r:embed="rId1"/>
          <a:stretch/>
        </p:blipFill>
        <p:spPr>
          <a:xfrm>
            <a:off x="395280" y="1628640"/>
            <a:ext cx="5264280" cy="4808520"/>
          </a:xfrm>
          <a:prstGeom prst="rect">
            <a:avLst/>
          </a:prstGeom>
          <a:ln w="0">
            <a:noFill/>
          </a:ln>
        </p:spPr>
      </p:pic>
      <p:sp>
        <p:nvSpPr>
          <p:cNvPr id="7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3E9D-B982-40FA-B027-5D15756DEE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n approch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94000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ici la page qui apparaît sur votre boite de messager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liquez sur Activer mon comp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57200" y="2208240"/>
            <a:ext cx="4978440" cy="3309840"/>
          </a:xfrm>
          <a:prstGeom prst="rect">
            <a:avLst/>
          </a:prstGeom>
          <a:ln w="0">
            <a:noFill/>
          </a:ln>
        </p:spPr>
      </p:pic>
      <p:sp>
        <p:nvSpPr>
          <p:cNvPr id="81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A87B-25D7-461E-84DE-03FA41455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1:36:28Z</dcterms:created>
  <dc:creator>FAURE Christian</dc:creator>
  <dc:description/>
  <dc:language>en-US</dc:language>
  <cp:lastModifiedBy>Etienne BIELLMANN</cp:lastModifiedBy>
  <dcterms:modified xsi:type="dcterms:W3CDTF">2022-02-02T17:53:13Z</dcterms:modified>
  <cp:revision>52</cp:revision>
  <dc:subject/>
  <dc:title>SNCF CONNECT</dc:title>
</cp:coreProperties>
</file>